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907588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3524-7D96-426E-A83E-41D3F2BE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318A-43CE-4A52-ABB4-1C830596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6ED4-F6CC-4209-B2B7-53813370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835A-1DC5-4EC7-AAFD-80BADEB19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67BA-3080-48C6-AAA2-4DF5905B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D6DC-BB70-4833-8740-74810278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8DB0-111D-44A3-AEE7-DAF4C504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4AAE-EF01-4254-B4A6-A7386F97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4B50-BC32-4A29-A03C-FD4A05E9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BE25-D72D-4D2F-9E50-32B3AAFE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AFBF-5C8C-4550-8BFC-1FC42E70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3219-B48B-4D99-9A8C-46E33FEB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BC3F-F915-4833-890D-34161E67CB80}" type="datetime">
              <a:rPr b="0" lang="tr-TR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C41D-D699-43CD-B479-8BC477CB4821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Slayt Numarası Yer Tutucusu"/>
          <p:cNvSpPr/>
          <p:nvPr/>
        </p:nvSpPr>
        <p:spPr>
          <a:xfrm>
            <a:off x="0" y="6492960"/>
            <a:ext cx="282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D222-3535-46B8-8F7D-BC23296E278A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5 Metin kutusu"/>
          <p:cNvSpPr/>
          <p:nvPr/>
        </p:nvSpPr>
        <p:spPr>
          <a:xfrm>
            <a:off x="992160" y="2133720"/>
            <a:ext cx="779004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esleki Yeterlilik Kurumu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e Ulusal Yeterlilik Siste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hmet GÖZÜKÜÇÜ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esleki Yeterlilik Kuru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2 Kasım 2011, Antal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48880" y="691920"/>
            <a:ext cx="7846920" cy="94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  <a:ea typeface="Arial"/>
              </a:rPr>
              <a:t>Avrupa Eğitim Vakfı (ETF)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Arial"/>
                <a:ea typeface="Arial"/>
              </a:rPr>
              <a:t>Hayat Boyu Öğrenme (HBÖ) için Türkiye Yeterlilikler Çerçevesinin (TYÇ) Uygulama Düzenlemeleri Çalıştayı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Sunum Plan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91800" y="1214280"/>
            <a:ext cx="8518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  <a:ea typeface="Arial"/>
              </a:rPr>
              <a:t>MYK ve Ulusal Yeterlilik Siste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  <a:ea typeface="Arial"/>
              </a:rPr>
              <a:t>UYS’de ürünler, süreçler ve aktör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  <a:ea typeface="Arial"/>
              </a:rPr>
              <a:t>UYS’de Kalite Güvence Mekanizmas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  <a:ea typeface="Arial"/>
              </a:rPr>
              <a:t>Akredite Belgelendirme, Akredite Eğiti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  <a:ea typeface="Arial"/>
              </a:rPr>
              <a:t>Türkiye Yeterlilikler Çerçeve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  <a:ea typeface="Arial"/>
              </a:rPr>
              <a:t>Önümüzdeki dönemde yapılacaklar, güçlük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3 Slayt Numarası Yer Tutucusu"/>
          <p:cNvSpPr/>
          <p:nvPr/>
        </p:nvSpPr>
        <p:spPr>
          <a:xfrm>
            <a:off x="0" y="649296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4B4C-2D22-4B3F-AD16-A7DDFAEA865C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Amaç ve Kurulu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  <a:ea typeface="Tahoma"/>
              </a:rPr>
              <a:t>Mesleki Yeterlilik Kurumu (MYK), AB ile uyumlu Ulusal Yeterlilik Sistemini kurmak ve işletmek üzere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  <a:ea typeface="Tahoma"/>
              </a:rPr>
              <a:t>21 Eylül 2006 tarihli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  <a:ea typeface="Tahoma"/>
              </a:rPr>
              <a:t>ve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  <a:ea typeface="Tahoma"/>
              </a:rPr>
              <a:t>5544 sayılı Kanun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  <a:ea typeface="Tahoma"/>
              </a:rPr>
              <a:t>ile kurulmuştur. Çalışma ve Sosyal Güvenlik Bakanlığının ilgili kuruluşu olan MYK kamu tüzel kişiliğini haiz, idari ve mali özerkliğe sahip, özel bütçeli bir kamu kurumudu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K’nın temel görevler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Ulusal Yeterlilik Çerçevesi’nin oluşturulması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Ulusal Meslek Standartları ve Ulusal Yeterliliklerin hazırlanması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Ölçme-değerlendirme ve belgelendirme sisteminin kurulup işletilmes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25406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3 Slayt Numarası Yer Tutucusu"/>
          <p:cNvSpPr/>
          <p:nvPr/>
        </p:nvSpPr>
        <p:spPr>
          <a:xfrm>
            <a:off x="0" y="649296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FA4C-BC88-4B6B-AFCD-235E292BF0CD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just"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Ulusal Yeterlilik Çerçevesi (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YÇ);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Avrupa Yeterlilikler Çerçevesi ile uyumlu olacak şekilde tasarlanan; ilk, orta ve yüksek öğretim dahil, meslekî, genel ve akademik eğitim ve öğretim programları ve diğer öğrenme yolları ile kazanılan tüm yeterlilik esasları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 algn="just"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Ulusal meslekî yeterlilik sistemi (UMYS): Teknik ve meslekî eğitim standartlarının ve bu standartları temel alan yeterliliklerin geliştirilmesi, uygulanması ve bunlara ilişkin yetkilendirme, denetim, ölçme ve değerlendirme, belgelendirme ve sertifikalandırmaya ilişkin kural ve faaliyetleri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3 Slayt Numarası Yer Tutucusu"/>
          <p:cNvSpPr/>
          <p:nvPr/>
        </p:nvSpPr>
        <p:spPr>
          <a:xfrm>
            <a:off x="0" y="649296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E764-2E46-4C71-9437-D1111980A43D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UYÇ ve UM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00160" y="112680"/>
          <a:ext cx="9482040" cy="6556320"/>
        </p:xfrm>
        <a:graphic>
          <a:graphicData uri="http://schemas.openxmlformats.org/drawingml/2006/table">
            <a:tbl>
              <a:tblPr/>
              <a:tblGrid>
                <a:gridCol w="1728720"/>
                <a:gridCol w="2784240"/>
                <a:gridCol w="2419560"/>
                <a:gridCol w="2549520"/>
              </a:tblGrid>
              <a:tr h="47484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ÜRÜNLER/ ÇIKTI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ÜREÇ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ÖR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LLANICI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44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lusal Meslek Standartları (UM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örevlendirme(Protoko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MS Taslağı Hazırla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ğrulama ve Yayımla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sleki Yeterlilik Kurumu (MY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MS Hazırlama Kuruluşları (STK, Sosyal Taraflar, Kamu Kurumlar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terlilik Hazırlama Kuruluşlar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ğitim Programı Hazırlayan Kurumlar (MEB,YÖ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İş Piyasası (İşveren/İşgör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ğitim Dünyası (Eğitimciler/Öğrencil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lusal Yeterlilikler (U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örevlendirme (Protoko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Y Taslağı Hazırla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ğrulama ve Yayımla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Y Hazırlama Kuruluşları (STK, Sosyal Taraflar, Eğitim ve Belgelendirme Kuruluşlar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gelendirme Kuruluşlar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ğitim Programı Hazırlayan Kurumlar (MEB,YÖ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İş Piyasası (İşveren/İşgör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ğitim Dünyası (Eğitimciler/Öğrencil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 rowSpan="2"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sleki Yeterlilik Belgele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reditasy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tk.&amp; izle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gelendir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Ölçme Değ./Sınav Değerlendirm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ÜRK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tk. Belgelendirme Kuruluşlar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reyl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İş Piyasas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ğitim Akreditasy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ğitim Sunu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ınav ve Değerlendir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tki. Eğitim Akr. Kuruluşlar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ğitim/Öğretim Kurumlar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ğitim/Öğr. Kurum&amp;Yetk. Ku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reyl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İş Piyasas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ğitim ve Öğr. Programlar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Geliştir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B/Yüksek Öğretim Kurumlar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ğitim ve Öğretim Kuruluşlar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36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ürkiye Yeterlilikler Çerçevesi (TYÇ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Çerçevenin Oluşturulmas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Çerçevenin İşletilme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YÇ Referansla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K Koordinasyonunda MEB, YÖK ve İlgili Diğer Paydaş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K , MEB, YÖK, İş Piyasas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gelendirme Kuruluşları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reditasyon Kuruluşlar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ğitim/Öğretim Kuruluşlar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Öğrenenler/Öğrenci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4" name=""/>
          <p:cNvGrpSpPr/>
          <p:nvPr/>
        </p:nvGrpSpPr>
        <p:grpSpPr>
          <a:xfrm>
            <a:off x="1456920" y="85320"/>
            <a:ext cx="321120" cy="720"/>
            <a:chOff x="1456920" y="85320"/>
            <a:chExt cx="321120" cy="720"/>
          </a:xfrm>
        </p:grpSpPr>
        <p:cxnSp>
          <p:nvCxnSpPr>
            <p:cNvPr id="55" name="AutoShape 14"/>
            <p:cNvCxnSpPr/>
            <p:nvPr/>
          </p:nvCxnSpPr>
          <p:spPr>
            <a:xfrm>
              <a:off x="1456920" y="85320"/>
              <a:ext cx="321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6" name=""/>
            <p:cNvSpPr txBox="1"/>
            <p:nvPr/>
          </p:nvSpPr>
          <p:spPr>
            <a:xfrm>
              <a:off x="1456920" y="85320"/>
              <a:ext cx="320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456920" y="88560"/>
            <a:ext cx="321120" cy="720"/>
            <a:chOff x="1456920" y="88560"/>
            <a:chExt cx="321120" cy="720"/>
          </a:xfrm>
        </p:grpSpPr>
        <p:cxnSp>
          <p:nvCxnSpPr>
            <p:cNvPr id="58" name="AutoShape 13"/>
            <p:cNvCxnSpPr/>
            <p:nvPr/>
          </p:nvCxnSpPr>
          <p:spPr>
            <a:xfrm>
              <a:off x="1456920" y="88560"/>
              <a:ext cx="321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" name=""/>
            <p:cNvSpPr txBox="1"/>
            <p:nvPr/>
          </p:nvSpPr>
          <p:spPr>
            <a:xfrm>
              <a:off x="1456920" y="88560"/>
              <a:ext cx="320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456920" y="91800"/>
            <a:ext cx="321120" cy="720"/>
            <a:chOff x="1456920" y="91800"/>
            <a:chExt cx="321120" cy="720"/>
          </a:xfrm>
        </p:grpSpPr>
        <p:cxnSp>
          <p:nvCxnSpPr>
            <p:cNvPr id="61" name="AutoShape 12"/>
            <p:cNvCxnSpPr/>
            <p:nvPr/>
          </p:nvCxnSpPr>
          <p:spPr>
            <a:xfrm>
              <a:off x="1456920" y="91800"/>
              <a:ext cx="321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2" name=""/>
            <p:cNvSpPr txBox="1"/>
            <p:nvPr/>
          </p:nvSpPr>
          <p:spPr>
            <a:xfrm>
              <a:off x="1456920" y="91800"/>
              <a:ext cx="320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UMYS’de Kalite Güv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UMS ve UY’lerin geliştirilmesi, doğrulanması, onayında KG MYK sorumluluğun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Belgelendirmede ISO/IEC 17024 standardına göre TÜRKAK akreditasyonu önşartı ve MYK’nın ilave KG önlemle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Akredite Eğitim ve Öğretimde MYK tarafından yetkilendirilen Eğitim Akreditasyon Kuruluşlar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3 Slayt Numarası Yer Tutucusu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E705-8631-40DF-ADC4-5A80E508BD09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Belgelendir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60160" y="1341000"/>
            <a:ext cx="891540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KHK/665’le birlikte “Meslekî Yeterlilik Belgesi: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 Meslekî Yeterlilik Kurumu tarafından onaylanmış, bireyin bilgi, beceri ve yetkinliğini ifade eden belgeler” şeklinde tanımlanmıştı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Daha önce yalnızca akredite (ISO/IEC 17024) belgelendirme kuruluşlarının yapacağı ölçme-değerlendirme ile belgeye erişim mümkün iken, yeni düzenlemeyle oluşturulacak KG yapısı çerçevesinde akredite eğitim ve öğretim kuruluşlarından mezun olanlar da doğrudan Mesleki Yeterlilik Belgesi alabilecekti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3 Slayt Numarası Yer Tutucusu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1748-1896-467E-B1DC-AB27640DEBD7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424160" y="4365720"/>
          <a:ext cx="7038720" cy="1706400"/>
        </p:xfrm>
        <a:graphic>
          <a:graphicData uri="http://schemas.openxmlformats.org/drawingml/2006/table">
            <a:tbl>
              <a:tblPr/>
              <a:tblGrid>
                <a:gridCol w="1296720"/>
                <a:gridCol w="3098880"/>
                <a:gridCol w="2643120"/>
              </a:tblGrid>
              <a:tr h="973800">
                <a:tc rowSpan="2"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sleki Yeterlilik Belgele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kreditasy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etkilendirme &amp; izle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lgelendirm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Ölçme Değ./ Sınav Değerlendirm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ÜRK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Y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etk. Belgelendirme Kuruluşlar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ğitim Akreditasy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ğitim Sunu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ınav ve Değerlendir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tki. Eğitim Akr. Kuruluşlar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ğitim/Öğretim Kurumlar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ğitim/Öğr. Kurum&amp;Yetk. Ku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2 İçerik Yer Tutucusu"/>
          <p:cNvSpPr/>
          <p:nvPr/>
        </p:nvSpPr>
        <p:spPr>
          <a:xfrm>
            <a:off x="495360" y="1579680"/>
            <a:ext cx="8915400" cy="42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Muhtelif strateji belgelerinde ve MYK Kanununda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Türkiye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Yeterlilikler Çerçevesinin oluşturulması, geliştirilmesi ve güncelliğinin korunması, AYÇ’ye referanslanması işlemlerinin MEB, YÖK ve ilgili diğer paydaşlarla birlikte MYK koordinasyonunda yürütüleceği belirtilmekted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TYÇ’nin  ülkemizdeki </a:t>
            </a:r>
            <a:r>
              <a:rPr b="1" lang="tr-TR" sz="2200" spc="-1" strike="noStrike">
                <a:solidFill>
                  <a:srgbClr val="000000"/>
                </a:solidFill>
                <a:latin typeface="Calibri"/>
              </a:rPr>
              <a:t>tüm yeterlilikleri içeren bütünleşik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8 seviyeli yapıda geliştirilmesi konusunda paydaşlar arasında mutabakat vardır. MYK Kanununda Kalite güvencesi sağlanmış tüm yeterliliklerin Ulusal Yeterlilik Çerçevesine dahil edileceği belirtilmektedir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UYÇ Hazırlama Komisyonu inisiyatifinde çalışmalar sürdürülmekted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1 Başlık"/>
          <p:cNvSpPr/>
          <p:nvPr/>
        </p:nvSpPr>
        <p:spPr>
          <a:xfrm>
            <a:off x="495360" y="549360"/>
            <a:ext cx="89154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Türkiye Yeterlilikler Çerçevesi (TYÇ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19000" y="3786120"/>
            <a:ext cx="8420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5400" spc="-1" strike="noStrike">
                <a:solidFill>
                  <a:srgbClr val="000000"/>
                </a:solidFill>
                <a:latin typeface="Calibri"/>
              </a:rPr>
              <a:t>Saygılarıml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1"/>
          <a:stretch/>
        </p:blipFill>
        <p:spPr>
          <a:xfrm>
            <a:off x="1857240" y="1071720"/>
            <a:ext cx="6120000" cy="2786040"/>
          </a:xfrm>
          <a:prstGeom prst="rect">
            <a:avLst/>
          </a:prstGeom>
          <a:ln w="0">
            <a:noFill/>
          </a:ln>
        </p:spPr>
      </p:pic>
      <p:sp>
        <p:nvSpPr>
          <p:cNvPr id="74" name="3 Slayt Numarası Yer Tutucusu"/>
          <p:cNvSpPr/>
          <p:nvPr/>
        </p:nvSpPr>
        <p:spPr>
          <a:xfrm>
            <a:off x="0" y="649296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7446-2DFA-4187-A97C-93F2F7D0D0A0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08:13:19Z</dcterms:created>
  <dc:creator>Yaprak AKÇAY</dc:creator>
  <dc:description/>
  <dc:language>en-US</dc:language>
  <cp:lastModifiedBy>Ahmet GÖZÜKÜÇÜK</cp:lastModifiedBy>
  <dcterms:modified xsi:type="dcterms:W3CDTF">2011-11-21T08:16:28Z</dcterms:modified>
  <cp:revision>267</cp:revision>
  <dc:subject/>
  <dc:title>Slayt 1</dc:title>
</cp:coreProperties>
</file>