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2E8-798A-442E-B0CB-65A71EBB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B75-3CFB-4297-83BB-C10FF387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4B0-E6A7-41BC-8D69-421E888A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570-45B2-442A-A4F1-F9F5FAB2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DE17-7080-442C-BDC8-C8EE53BA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B6AE-2383-4B1E-AB7A-08B2A144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EDBB-D70F-4A85-8C0D-2C53321D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8CCA-C2A6-4486-9853-BCEA17EA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BDB2-1D5F-442A-88AE-D7F3E3D2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4EEA-0F3D-427E-B8BD-5624B4A4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8268-90D7-4A18-96D6-1E1F1EC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7ED-A543-4C6A-87C9-67A692FE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FE71-9C15-4D26-9B16-2571C039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07D6-E141-478D-82D4-89F354D5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F500-BC36-4CD5-B676-E2C013A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371E-589A-447E-A253-126B59FF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D8AF-5ECB-4393-B334-E9A5323E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4AD-8BB4-43A9-9C0A-ED11B0C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96A-0A17-4507-9AE5-A5ED6B69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5BD-4C2E-49FC-AFA3-E1924F8A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AA0-603D-4ACD-998E-EA5F66A5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DC2-5AC9-446F-B4EE-83929192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07D-9BA0-456A-A0D7-06187CE1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DF1-5AD8-484A-9BA9-744B0C5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2B40-AC23-4458-B3E1-C434FCC9C05F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7BF5-2C9B-4257-AF74-13E631F2325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4476-4576-4694-8F1E-F51A07146D3D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A4DA-3D6F-4227-93F7-D5B71FDD2D7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etf.europa.eu/web.ns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846920" cy="94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Avrupa Eğitim Vakfı (ETF)</a:t>
            </a:r>
            <a:br>
              <a:rPr sz="2000"/>
            </a:br>
            <a:r>
              <a:rPr b="0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Hayat Boyu Öğrenme (HBÖ) için Türkiye Yeterlilikler Çerçevesinin (TYÇ) Uygulama Düzenlemeleri Çalıştayı 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198864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  <a:ea typeface="Arial"/>
              </a:rPr>
              <a:t>TÜRKİYE YÜKSEKÖĞRETİM YETERLİLİKLER ÇERÇEVESİ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  <a:ea typeface="Arial"/>
              </a:rPr>
              <a:t>(TYYÇ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Prof. Dr. Oğuz Borat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İstanbul Ticaret Üniversitesi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22-24 Kasım 2011, Antalya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5B5A-26BC-4CF0-8E34-29EE02B56FC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92" name="Grup 6"/>
          <p:cNvGrpSpPr/>
          <p:nvPr/>
        </p:nvGrpSpPr>
        <p:grpSpPr>
          <a:xfrm>
            <a:off x="0" y="0"/>
            <a:ext cx="9144000" cy="544680"/>
            <a:chOff x="0" y="0"/>
            <a:chExt cx="9144000" cy="544680"/>
          </a:xfrm>
        </p:grpSpPr>
        <p:pic>
          <p:nvPicPr>
            <p:cNvPr id="93" name="Picture 16" descr="flag_guide-16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755280" cy="53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C:\Users\pc\Pictures\türk bayrağı.jpg"/>
            <p:cNvPicPr/>
            <p:nvPr/>
          </p:nvPicPr>
          <p:blipFill>
            <a:blip r:embed="rId2"/>
            <a:stretch/>
          </p:blipFill>
          <p:spPr>
            <a:xfrm>
              <a:off x="8385840" y="0"/>
              <a:ext cx="758160" cy="53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Resim 14" descr="ETF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55280" y="6840"/>
              <a:ext cx="116352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Resim 15" descr="http://tyyc.yok.gov.tr/img/amblem.jpg"/>
            <p:cNvPicPr/>
            <p:nvPr/>
          </p:nvPicPr>
          <p:blipFill>
            <a:blip r:embed="rId5"/>
            <a:stretch/>
          </p:blipFill>
          <p:spPr>
            <a:xfrm>
              <a:off x="7600320" y="6840"/>
              <a:ext cx="785160" cy="53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4000" y="1125360"/>
            <a:ext cx="8064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YÖK, YÖDEK, ADEK, Stratejik Planlama ve Kalite Güvencesi,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Türkiye Yükseköğretim Yeterlilikler Çerçevesi (TYYÇ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TYYÇ Yeterlilik Profilleri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</a:rPr>
              <a:t>TYYÇ’ de Seviye, Süre, İş Yükü ve AKTS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</a:rPr>
              <a:t>TYYÇ’ de Seviyeler ve Her Bir Seviyede Farklı Öğrenme Çıktıları Olan Yeterlilikler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Yükseköğretim Yeterliliklerindeki Gelişmeler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F9C8-26FB-4B7A-B96A-E809A83B021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  <a:ea typeface="Arial"/>
              </a:rPr>
              <a:t>Sunum İçeriği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5951-3B91-4043-9589-68D0A4D86B9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Dikdörtgen 8"/>
          <p:cNvSpPr/>
          <p:nvPr/>
        </p:nvSpPr>
        <p:spPr>
          <a:xfrm>
            <a:off x="468360" y="260280"/>
            <a:ext cx="828504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ükseköğretim Kurumlarında Akademik Değerlendirme ve Kalite Geliştirm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70c0"/>
                </a:solidFill>
                <a:latin typeface="Arial"/>
              </a:rPr>
              <a:t>“</a:t>
            </a:r>
            <a:r>
              <a:rPr b="1" i="1" lang="tr-TR" sz="2400" spc="-1" strike="noStrike">
                <a:solidFill>
                  <a:srgbClr val="00b0f0"/>
                </a:solidFill>
                <a:latin typeface="Arial"/>
              </a:rPr>
              <a:t>Yükseköğretim Kurumlarında Akademik Değerlendirme ve Kalite Geliştirme Yönetmeliğ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</a:rPr>
              <a:t>”, YÖDEK Komisyonu, ADEK Kurulları, 2005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70c0"/>
                </a:solidFill>
                <a:latin typeface="Arial"/>
              </a:rPr>
              <a:t>“</a:t>
            </a:r>
            <a:r>
              <a:rPr b="1" i="1" lang="tr-TR" sz="2400" spc="-1" strike="noStrike">
                <a:solidFill>
                  <a:srgbClr val="00b0f0"/>
                </a:solidFill>
                <a:latin typeface="Arial"/>
              </a:rPr>
              <a:t>Yükseköğretim Kurumlarında Akademik Değerlendirme ve Kalite Geliştirme Rehber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</a:rPr>
              <a:t>”: Stratejik Plan, Kurumsal Değerlendirme, Performans Göstergeleri, İç-Dış Değerlendirme, Periyodik İzleme ve İyileştirme, 2007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b0f0"/>
                </a:solidFill>
                <a:latin typeface="Arial"/>
              </a:rPr>
              <a:t>Not: Standart ve ilkelerin hazırlanması, izlenmesi ve değerlendirilmesinde hizmet alan dış paydaşların katılımı, izlemesi, etkisi ve katkısı yoktur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EE22-49CA-44A4-9AB9-28FCAE26358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Dikdörtgen 8"/>
          <p:cNvSpPr/>
          <p:nvPr/>
        </p:nvSpPr>
        <p:spPr>
          <a:xfrm>
            <a:off x="468360" y="260280"/>
            <a:ext cx="828504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70c0"/>
                </a:solidFill>
                <a:latin typeface="Arial"/>
              </a:rPr>
              <a:t>Türkiye Yükseköğretim Yeterlilikler Çerçevesi (TYYÇ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AYÇ 5., 6., 7., 8.Seviyeleri </a:t>
            </a: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Süre</a:t>
            </a: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c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Nisan 2006-2008</a:t>
            </a:r>
            <a:r>
              <a:rPr b="1" i="1" lang="tr-TR" sz="2400" spc="-1" strike="noStrike" baseline="30000">
                <a:solidFill>
                  <a:srgbClr val="0070c0"/>
                </a:solidFill>
                <a:latin typeface="Arial"/>
                <a:ea typeface="MS PGothic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TYYÇ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’nin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 tasarımı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 (bilgi-beceri-yetkinlik)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Kasım 2008</a:t>
            </a:r>
            <a:r>
              <a:rPr b="1" i="1" lang="tr-TR" sz="2400" spc="-1" strike="noStrike" baseline="30000">
                <a:solidFill>
                  <a:srgbClr val="0070c0"/>
                </a:solidFill>
                <a:latin typeface="Arial"/>
                <a:ea typeface="MS PGothic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P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aydaşlar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dan yazılı onay alma, Şubat 2009 ve 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YÖK’ün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 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seviye tanımlayıcılarını 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onay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ı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Ocak 2010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Öğrenme Çıktıları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nın 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yükseköğretim programları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na 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uygulanması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Pilot : Aralık 2010, Tüm kurumlarda: Aralık 2012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Temel Alan Yeterlikler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22 Adet (ISCED Temel Alan Kodlu), Ocak 2011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UYÇ Hazırlık Komisyonu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 Çalışmalarına Katılım ve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Yeterl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li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klerin 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UYÇ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’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y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e d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â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hil edilmes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Ağustos 2010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2060"/>
                </a:solidFill>
                <a:latin typeface="Arial"/>
              </a:rPr>
              <a:t>(1) «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Towards a European Qualifications Framework for Lifelong Learning, Commission Staff Working 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Document, 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Commission of The European Communities, SEC(2005) 957, Brussels, 8.7.2005» 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2060"/>
                </a:solidFill>
                <a:latin typeface="Arial"/>
              </a:rPr>
              <a:t>(2) 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«The European Qualifications Framework  for Lifelong Learning (EQF).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Luxembourg: Office for Official 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Publications of the European Communities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. 23.04.2008»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0D19-C5D5-40C9-BFE1-ED1437B078C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Başlık 1"/>
          <p:cNvSpPr/>
          <p:nvPr/>
        </p:nvSpPr>
        <p:spPr>
          <a:xfrm>
            <a:off x="403200" y="387360"/>
            <a:ext cx="8285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06" name="Grup 2"/>
          <p:cNvGrpSpPr/>
          <p:nvPr/>
        </p:nvGrpSpPr>
        <p:grpSpPr>
          <a:xfrm>
            <a:off x="403200" y="0"/>
            <a:ext cx="8740800" cy="6398280"/>
            <a:chOff x="403200" y="0"/>
            <a:chExt cx="8740800" cy="6398280"/>
          </a:xfrm>
        </p:grpSpPr>
        <p:pic>
          <p:nvPicPr>
            <p:cNvPr id="107" name="Picture 0" descr="TYYÇ TABLO SON.jpg"/>
            <p:cNvPicPr/>
            <p:nvPr/>
          </p:nvPicPr>
          <p:blipFill>
            <a:blip r:embed="rId1"/>
            <a:stretch/>
          </p:blipFill>
          <p:spPr>
            <a:xfrm>
              <a:off x="1236960" y="0"/>
              <a:ext cx="6617160" cy="502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Dikdörtgen 1"/>
            <p:cNvSpPr/>
            <p:nvPr/>
          </p:nvSpPr>
          <p:spPr>
            <a:xfrm>
              <a:off x="403200" y="4797720"/>
              <a:ext cx="874080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100" spc="-1" strike="noStrike">
                  <a:solidFill>
                    <a:srgbClr val="0070c0"/>
                  </a:solidFill>
                  <a:latin typeface="Arial"/>
                </a:rPr>
                <a:t>Dip Notlar</a:t>
              </a:r>
              <a:endParaRPr b="0" lang="en-US" sz="11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1. Lisans programları içerisinde veya lisans programları ile ilişkilendirilmiş bilgi ağırlıklı önlisans eğitim ve öğretim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2. Lisans programları içerisinde veya lisans programları ile ilişkilendirilmiş uygulama ağırlıklı önlisans eğitim ve öğretim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3. Meslek yüksekokulları uygulama ağırlıklı önlisans eğitim ve öğretim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4. Bilgi ağırlıklı lisans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5. Uygulama ağırlıklı lisans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6. Bilgi ağırlıklı tezli veya tezsiz yükseklisans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7. Uygulama ağırlıklı tezli veya tezsiz yükseklisans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8. Doktora programları</a:t>
              </a:r>
              <a:endParaRPr b="0" lang="en-US" sz="11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F47B-19A9-4453-A402-B05E9F215A2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2 Başlık"/>
          <p:cNvSpPr/>
          <p:nvPr/>
        </p:nvSpPr>
        <p:spPr>
          <a:xfrm>
            <a:off x="228600" y="57240"/>
            <a:ext cx="8458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11" name="Grup 6"/>
          <p:cNvGrpSpPr/>
          <p:nvPr/>
        </p:nvGrpSpPr>
        <p:grpSpPr>
          <a:xfrm>
            <a:off x="569880" y="831960"/>
            <a:ext cx="7827840" cy="5282640"/>
            <a:chOff x="569880" y="831960"/>
            <a:chExt cx="7827840" cy="5282640"/>
          </a:xfrm>
        </p:grpSpPr>
        <p:grpSp>
          <p:nvGrpSpPr>
            <p:cNvPr id="112" name="Grup 49"/>
            <p:cNvGrpSpPr/>
            <p:nvPr/>
          </p:nvGrpSpPr>
          <p:grpSpPr>
            <a:xfrm>
              <a:off x="569880" y="831960"/>
              <a:ext cx="7827840" cy="5282640"/>
              <a:chOff x="569880" y="831960"/>
              <a:chExt cx="7827840" cy="5282640"/>
            </a:xfrm>
          </p:grpSpPr>
          <p:sp>
            <p:nvSpPr>
              <p:cNvPr id="113" name="AutoShape 7"/>
              <p:cNvSpPr/>
              <p:nvPr/>
            </p:nvSpPr>
            <p:spPr>
              <a:xfrm flipH="1">
                <a:off x="1437120" y="5581800"/>
                <a:ext cx="527760" cy="4795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4" name="AutoShape 8"/>
              <p:cNvSpPr/>
              <p:nvPr/>
            </p:nvSpPr>
            <p:spPr>
              <a:xfrm flipH="1">
                <a:off x="1437120" y="5081040"/>
                <a:ext cx="527760" cy="4795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5" name="AutoShape 9"/>
              <p:cNvSpPr/>
              <p:nvPr/>
            </p:nvSpPr>
            <p:spPr>
              <a:xfrm flipH="1">
                <a:off x="1437120" y="4561920"/>
                <a:ext cx="527760" cy="48168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6" name="AutoShape 10"/>
              <p:cNvSpPr/>
              <p:nvPr/>
            </p:nvSpPr>
            <p:spPr>
              <a:xfrm flipH="1">
                <a:off x="1437120" y="3985920"/>
                <a:ext cx="527760" cy="4795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7" name="AutoShape 11"/>
              <p:cNvSpPr/>
              <p:nvPr/>
            </p:nvSpPr>
            <p:spPr>
              <a:xfrm flipH="1">
                <a:off x="1437120" y="3281760"/>
                <a:ext cx="527760" cy="42696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8" name="AutoShape 12"/>
              <p:cNvSpPr/>
              <p:nvPr/>
            </p:nvSpPr>
            <p:spPr>
              <a:xfrm flipH="1">
                <a:off x="1437120" y="2800440"/>
                <a:ext cx="527760" cy="43056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9" name="AutoShape 13"/>
              <p:cNvSpPr/>
              <p:nvPr/>
            </p:nvSpPr>
            <p:spPr>
              <a:xfrm flipH="1">
                <a:off x="1437120" y="2319120"/>
                <a:ext cx="527760" cy="43236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</a:t>
                </a: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 flipH="1">
                <a:off x="1437120" y="1837440"/>
                <a:ext cx="527760" cy="43236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1" name="AutoShape 20"/>
              <p:cNvSpPr/>
              <p:nvPr/>
            </p:nvSpPr>
            <p:spPr>
              <a:xfrm flipH="1">
                <a:off x="2074320" y="3312360"/>
                <a:ext cx="1022040" cy="3967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Önlisans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2" name="AutoShape 21"/>
              <p:cNvSpPr/>
              <p:nvPr/>
            </p:nvSpPr>
            <p:spPr>
              <a:xfrm flipH="1">
                <a:off x="2074320" y="2831040"/>
                <a:ext cx="1022040" cy="3985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Lisans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3" name="AutoShape 22"/>
              <p:cNvSpPr/>
              <p:nvPr/>
            </p:nvSpPr>
            <p:spPr>
              <a:xfrm flipH="1">
                <a:off x="2074320" y="2350080"/>
                <a:ext cx="1022040" cy="4003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YLisans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4" name="AutoShape 23"/>
              <p:cNvSpPr/>
              <p:nvPr/>
            </p:nvSpPr>
            <p:spPr>
              <a:xfrm flipH="1">
                <a:off x="2074320" y="1868400"/>
                <a:ext cx="1022040" cy="4003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Doktora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5" name="AutoShape 16"/>
              <p:cNvSpPr/>
              <p:nvPr/>
            </p:nvSpPr>
            <p:spPr>
              <a:xfrm flipH="1">
                <a:off x="6568560" y="3354120"/>
                <a:ext cx="1266480" cy="4003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6" name="AutoShape 16"/>
              <p:cNvSpPr/>
              <p:nvPr/>
            </p:nvSpPr>
            <p:spPr>
              <a:xfrm flipH="1">
                <a:off x="6566760" y="2874600"/>
                <a:ext cx="1267920" cy="4003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40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7" name="AutoShape 16"/>
              <p:cNvSpPr/>
              <p:nvPr/>
            </p:nvSpPr>
            <p:spPr>
              <a:xfrm flipH="1">
                <a:off x="6569280" y="2394720"/>
                <a:ext cx="1267920" cy="4003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90-120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8" name="AutoShape 16"/>
              <p:cNvSpPr/>
              <p:nvPr/>
            </p:nvSpPr>
            <p:spPr>
              <a:xfrm flipH="1">
                <a:off x="6566760" y="1869480"/>
                <a:ext cx="1267920" cy="3985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80-240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9" name="Line 25"/>
              <p:cNvSpPr/>
              <p:nvPr/>
            </p:nvSpPr>
            <p:spPr>
              <a:xfrm>
                <a:off x="569880" y="3872160"/>
                <a:ext cx="7827840" cy="0"/>
              </a:xfrm>
              <a:prstGeom prst="line">
                <a:avLst/>
              </a:prstGeom>
              <a:ln w="572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30" name="AutoShape 27"/>
              <p:cNvSpPr/>
              <p:nvPr/>
            </p:nvSpPr>
            <p:spPr>
              <a:xfrm rot="16200000">
                <a:off x="31320" y="2359800"/>
                <a:ext cx="1920240" cy="843120"/>
              </a:xfrm>
              <a:prstGeom prst="flowChartAlternateProcess">
                <a:avLst/>
              </a:pr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Yükseköğretim 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Düzeyleri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31" name="AutoShape 28"/>
              <p:cNvSpPr/>
              <p:nvPr/>
            </p:nvSpPr>
            <p:spPr>
              <a:xfrm rot="16200000">
                <a:off x="-88560" y="4612680"/>
                <a:ext cx="2160360" cy="843120"/>
              </a:xfrm>
              <a:prstGeom prst="flowChartAlternateProcess">
                <a:avLst/>
              </a:pr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İlk Ve Orta Öğretim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</a:t>
                </a: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Düzeyleri 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32" name="Yuvarlatılmış Dikdörtgen 1"/>
              <p:cNvSpPr/>
              <p:nvPr/>
            </p:nvSpPr>
            <p:spPr>
              <a:xfrm>
                <a:off x="615600" y="831960"/>
                <a:ext cx="1236600" cy="907920"/>
              </a:xfrm>
              <a:prstGeom prst="roundRect">
                <a:avLst>
                  <a:gd name="adj" fmla="val 16667"/>
                </a:avLst>
              </a:prstGeom>
              <a:solidFill>
                <a:srgbClr val="002060"/>
              </a:solidFill>
              <a:ln w="28440">
                <a:solidFill>
                  <a:srgbClr val="4455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d9d9d9"/>
                    </a:solidFill>
                    <a:latin typeface="Arial"/>
                    <a:ea typeface="MS PGothic"/>
                  </a:rPr>
                  <a:t>AYÇ-HBÖ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d9d9d9"/>
                    </a:solidFill>
                    <a:latin typeface="Arial"/>
                    <a:ea typeface="MS PGothic"/>
                  </a:rPr>
                  <a:t>Seviyeleri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33" name="Yuvarlatılmış Dikdörtgen 47"/>
              <p:cNvSpPr/>
              <p:nvPr/>
            </p:nvSpPr>
            <p:spPr>
              <a:xfrm>
                <a:off x="1995480" y="831960"/>
                <a:ext cx="1280880" cy="907920"/>
              </a:xfrm>
              <a:prstGeom prst="roundRect">
                <a:avLst>
                  <a:gd name="adj" fmla="val 16667"/>
                </a:avLst>
              </a:prstGeom>
              <a:solidFill>
                <a:srgbClr val="002060"/>
              </a:solidFill>
              <a:ln w="28440">
                <a:solidFill>
                  <a:srgbClr val="4455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d9d9d9"/>
                    </a:solidFill>
                    <a:latin typeface="Arial"/>
                    <a:ea typeface="MS PGothic"/>
                  </a:rPr>
                  <a:t>TYYÇ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d9d9d9"/>
                    </a:solidFill>
                    <a:latin typeface="Arial"/>
                    <a:ea typeface="MS PGothic"/>
                  </a:rPr>
                  <a:t>Seviyeleri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34" name="Yuvarlatılmış Dikdörtgen 48"/>
              <p:cNvSpPr/>
              <p:nvPr/>
            </p:nvSpPr>
            <p:spPr>
              <a:xfrm>
                <a:off x="6553080" y="853920"/>
                <a:ext cx="1265040" cy="907920"/>
              </a:xfrm>
              <a:prstGeom prst="roundRect">
                <a:avLst>
                  <a:gd name="adj" fmla="val 16667"/>
                </a:avLst>
              </a:prstGeom>
              <a:solidFill>
                <a:srgbClr val="002060"/>
              </a:solidFill>
              <a:ln w="28440">
                <a:solidFill>
                  <a:srgbClr val="4455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d9d9d9"/>
                    </a:solidFill>
                    <a:latin typeface="Arial"/>
                    <a:ea typeface="MS PGothic"/>
                  </a:rPr>
                  <a:t>AKTS Krediler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</p:grpSp>
        <p:sp>
          <p:nvSpPr>
            <p:cNvPr id="135" name="Yuvarlatılmış Dikdörtgen 34"/>
            <p:cNvSpPr/>
            <p:nvPr/>
          </p:nvSpPr>
          <p:spPr>
            <a:xfrm>
              <a:off x="3335040" y="831960"/>
              <a:ext cx="1150920" cy="90792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28440">
              <a:solidFill>
                <a:srgbClr val="445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Süre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(Yıl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6" name="AutoShape 20"/>
            <p:cNvSpPr/>
            <p:nvPr/>
          </p:nvSpPr>
          <p:spPr>
            <a:xfrm flipH="1">
              <a:off x="3372840" y="3285360"/>
              <a:ext cx="1022040" cy="3967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7" name="AutoShape 21"/>
            <p:cNvSpPr/>
            <p:nvPr/>
          </p:nvSpPr>
          <p:spPr>
            <a:xfrm flipH="1">
              <a:off x="3372840" y="2804040"/>
              <a:ext cx="1022040" cy="3985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,5 - 4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8" name="AutoShape 22"/>
            <p:cNvSpPr/>
            <p:nvPr/>
          </p:nvSpPr>
          <p:spPr>
            <a:xfrm flipH="1">
              <a:off x="3372840" y="2323080"/>
              <a:ext cx="1022040" cy="4003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,5 - 2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9" name="AutoShape 23"/>
            <p:cNvSpPr/>
            <p:nvPr/>
          </p:nvSpPr>
          <p:spPr>
            <a:xfrm flipH="1">
              <a:off x="3372840" y="1841400"/>
              <a:ext cx="1022040" cy="4003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 - 4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0" name="Yuvarlatılmış Dikdörtgen 40"/>
            <p:cNvSpPr/>
            <p:nvPr/>
          </p:nvSpPr>
          <p:spPr>
            <a:xfrm>
              <a:off x="4605120" y="853920"/>
              <a:ext cx="1838160" cy="90792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28440">
              <a:solidFill>
                <a:srgbClr val="445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İş Yükü (Saat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(1 AKTS</a:t>
              </a:r>
              <a:r>
                <a:rPr b="1" lang="tr-TR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 </a:t>
              </a:r>
              <a:r>
                <a:rPr b="1" lang="fi-FI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= 25 - 30 saat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 flipH="1">
              <a:off x="4623120" y="3323520"/>
              <a:ext cx="1820520" cy="4003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.000 - 3.6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2" name="AutoShape 16"/>
            <p:cNvSpPr/>
            <p:nvPr/>
          </p:nvSpPr>
          <p:spPr>
            <a:xfrm flipH="1">
              <a:off x="4624920" y="2881440"/>
              <a:ext cx="1822320" cy="4003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6.000 – 7.2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3" name="AutoShape 16"/>
            <p:cNvSpPr/>
            <p:nvPr/>
          </p:nvSpPr>
          <p:spPr>
            <a:xfrm flipH="1">
              <a:off x="4624200" y="2364120"/>
              <a:ext cx="1822320" cy="4795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.250 – 2.7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.000 – 3.6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4" name="AutoShape 16"/>
            <p:cNvSpPr/>
            <p:nvPr/>
          </p:nvSpPr>
          <p:spPr>
            <a:xfrm flipH="1">
              <a:off x="4622040" y="1841400"/>
              <a:ext cx="1822320" cy="4813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.500 – 5.4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6000 – 7.2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5" name="Dikdörtgen 2"/>
            <p:cNvSpPr/>
            <p:nvPr/>
          </p:nvSpPr>
          <p:spPr>
            <a:xfrm>
              <a:off x="2699640" y="4003920"/>
              <a:ext cx="51350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r-TR" sz="1600" spc="-1" strike="noStrike">
                  <a:solidFill>
                    <a:srgbClr val="0070c0"/>
                  </a:solidFill>
                  <a:latin typeface="Arial"/>
                </a:rPr>
                <a:t>TYYÇ Tasarım Aşamaları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r-TR" sz="1600" spc="-1" strike="noStrike">
                  <a:solidFill>
                    <a:srgbClr val="0070c0"/>
                  </a:solidFill>
                  <a:latin typeface="Arial"/>
                </a:rPr>
                <a:t>Seviyeler (levels, cycles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r-TR" sz="1600" spc="-1" strike="noStrike">
                  <a:solidFill>
                    <a:srgbClr val="0070c0"/>
                  </a:solidFill>
                  <a:latin typeface="Arial"/>
                </a:rPr>
                <a:t>Profiller (profiles) ve Verilen Dereceler (award types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r-TR" sz="1600" spc="-1" strike="noStrike">
                  <a:solidFill>
                    <a:srgbClr val="0070c0"/>
                  </a:solidFill>
                  <a:latin typeface="Arial"/>
                </a:rPr>
                <a:t>Seviye tanımlayıcıları (EQF-LLL descriptors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r-TR" sz="1600" spc="-1" strike="noStrike">
                  <a:solidFill>
                    <a:srgbClr val="0070c0"/>
                  </a:solidFill>
                  <a:latin typeface="Arial"/>
                </a:rPr>
                <a:t>Krediler ve Çalışma Yükü (Credits and workload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r-TR" sz="1600" spc="-1" strike="noStrike">
                  <a:solidFill>
                    <a:srgbClr val="0070c0"/>
                  </a:solidFill>
                  <a:latin typeface="Arial"/>
                </a:rPr>
                <a:t>Kalite Güvencesi (Quality Assurance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sp>
        <p:nvSpPr>
          <p:cNvPr id="146" name="Dikdörtgen 2"/>
          <p:cNvSpPr/>
          <p:nvPr/>
        </p:nvSpPr>
        <p:spPr>
          <a:xfrm>
            <a:off x="626760" y="160200"/>
            <a:ext cx="72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TYYÇ’de Seviye, Süre, İş Yükü ve AK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A4C2-4CD9-404A-A198-5AAF95A1EB8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125360"/>
          <a:ext cx="7921440" cy="5043600"/>
        </p:xfrm>
        <a:graphic>
          <a:graphicData uri="http://schemas.openxmlformats.org/drawingml/2006/table">
            <a:tbl>
              <a:tblPr/>
              <a:tblGrid>
                <a:gridCol w="2592360"/>
                <a:gridCol w="1584360"/>
                <a:gridCol w="1008000"/>
                <a:gridCol w="1008000"/>
                <a:gridCol w="1728720"/>
              </a:tblGrid>
              <a:tr h="92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Yükseköğretim Seviyel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6076b4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Verilen Yeterlilikler ve Derece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607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kt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YÇ-HBÖ 8.Seviy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QF-EHEA  3.Seviy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kt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ıpta Uzmanlı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natta Yeterlil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92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Yüksek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YÇ-HBÖ 7.Seviy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QF-EHEA  2.Seviy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ezli Yüksek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ezsiz Yüksek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YÇ-HBÖ 6.Seviy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QF-EHEA  1.Seviy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sa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Fakülte Programlar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Yüksekokul ve Konservatuar Programlar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Ön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YÇ-HBÖ 5.Seviy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QF-EHEA  Kısa Seviy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Ön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Fakülte Lisans Programları İçerisind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Ön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Meslek Yüksek Okullar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9" name="1 Başlık"/>
          <p:cNvSpPr/>
          <p:nvPr/>
        </p:nvSpPr>
        <p:spPr>
          <a:xfrm>
            <a:off x="45720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TYYÇ’de Seviyeler ve Her Bir Seviyede Farklı Öğrenme Çıktıları Olan Yeterlilikle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  <a:ea typeface="Arial"/>
              </a:rPr>
              <a:t>Yükseköğretim Yeterliliklerindeki Gelişmeler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8 seviyeli yapı; ortak referans noktaları (Öğrenme Çıktılarına / Yetkinliklere dayalı yaklaşım / Bologna Süreci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Araç ve gereç desteği (AKTS, Europass aracı, </a:t>
            </a:r>
            <a:r>
              <a:rPr b="0" i="1" lang="tr-TR" sz="1800" spc="-1" strike="noStrike">
                <a:solidFill>
                  <a:srgbClr val="00b0f0"/>
                </a:solidFill>
                <a:latin typeface="Arial"/>
                <a:ea typeface="Arial"/>
              </a:rPr>
              <a:t>Öğrenme Fırsatları Ploteus Portali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Paydaşlarla İşbirliği ve İlke ve Prosedürler (</a:t>
            </a:r>
            <a:r>
              <a:rPr b="0" i="1" lang="tr-TR" sz="1800" spc="-1" strike="noStrike">
                <a:solidFill>
                  <a:srgbClr val="00b0f0"/>
                </a:solidFill>
                <a:latin typeface="Arial"/>
                <a:ea typeface="Arial"/>
              </a:rPr>
              <a:t>Kalite Güvencesinde katılımın sağlanması, Rehberlik ve Danışmanlık hizmetleri, Anahtar Yetkinliklerin geliştirilmesi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Örgün Eğitime dayalı Yaygın ve İnformal Öğrenmenin geçerliliği, tanınması ve teşviki (</a:t>
            </a:r>
            <a:r>
              <a:rPr b="0" i="1" lang="tr-TR" sz="1800" spc="-1" strike="noStrike">
                <a:solidFill>
                  <a:srgbClr val="00b0f0"/>
                </a:solidFill>
                <a:latin typeface="Arial"/>
                <a:ea typeface="Arial"/>
              </a:rPr>
              <a:t>mevcutlar daha ziyade örgün eğitime göre tanımlanmıştır; yaygın ve informal öğrenmenin geçerliliği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Önceki Öğrenmenin Tanınması (</a:t>
            </a:r>
            <a:r>
              <a:rPr b="0" i="1" lang="tr-TR" sz="1800" spc="-1" strike="noStrike">
                <a:solidFill>
                  <a:srgbClr val="00b0f0"/>
                </a:solidFill>
                <a:latin typeface="Arial"/>
                <a:ea typeface="Arial"/>
              </a:rPr>
              <a:t>Çalışmaların hızlandırılması; bireylerin rehber ve danışmanlar aracılığı hazırlanması ve gelişim dosyalarının hazırlanması konusundaki standart ve ilkelerin belirlenmesi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UYÇ Hazırlık Komisyonu Çalışmaları (</a:t>
            </a:r>
            <a:r>
              <a:rPr b="0" i="1" lang="tr-TR" sz="1800" spc="-1" strike="noStrike">
                <a:solidFill>
                  <a:srgbClr val="00b0f0"/>
                </a:solidFill>
                <a:latin typeface="Arial"/>
                <a:ea typeface="Arial"/>
              </a:rPr>
              <a:t>UYÇ kapsamında Kalite Güvencesinin MYK Kanununun 23a maddesi çerçevesinde yürütülmesi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A09A-604A-4E78-9F93-02424A610D3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76720" y="3213000"/>
            <a:ext cx="27352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f0"/>
                </a:solidFill>
                <a:latin typeface="Arial"/>
                <a:ea typeface="Arial"/>
              </a:rPr>
              <a:t>Teşekkürler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3F0D-FD71-4982-8C76-B8E3A17A950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0:03:43Z</dcterms:created>
  <dc:creator>Oguz Borat</dc:creator>
  <dc:description/>
  <dc:language>en-US</dc:language>
  <cp:lastModifiedBy>.</cp:lastModifiedBy>
  <dcterms:modified xsi:type="dcterms:W3CDTF">2011-11-21T06:33:51Z</dcterms:modified>
  <cp:revision>95</cp:revision>
  <dc:subject/>
  <dc:title>PowerPoint Sunusu</dc:title>
</cp:coreProperties>
</file>