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E51-1A19-4A38-969F-8101D020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648-A211-47D1-9819-B4A9CB67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7C6-B415-4A8E-AC8E-077A26F4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94E-73AA-403E-8729-7870540B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32B-F24B-47B5-8D5E-4B9C0DE2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093-467A-4EA3-8702-EE2C21C5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7C3-A390-4E00-98C8-D1C3E8AC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AA2-0839-4C33-AF2B-4EB747E7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39F-EE27-4E09-929A-E0A5614D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15F8-728D-48E4-BA1F-B56A9AB7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88A-6F9D-4841-BF95-5C1DB3F3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ECC-1BA9-45FE-802A-A152DBD0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D313-739C-4CFD-92B8-4A6808C7E42A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y of National Education within the Framework of Qualificatio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 Nov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. Mustafa AKSO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al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afaaksoy@meb.gov.t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Calibri"/>
              </a:rPr>
              <a:t>LLL and EQ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4040280" cy="977760"/>
          </a:xfrm>
          <a:prstGeom prst="rect">
            <a:avLst/>
          </a:prstGeom>
          <a:solidFill>
            <a:srgbClr val="eeece1"/>
          </a:solidFill>
          <a:ln w="25560">
            <a:solidFill>
              <a:srgbClr val="c0504d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Lifelong Lear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6 Basic Princi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Providing opportunities for accessing continuing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Improving investment in human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Improving effective teaching and learning methods within the framework of L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Improving ways to participate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Improving the guiding and counselling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Improving LLL opportunities as learner-oriented as much as po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1720" cy="977760"/>
          </a:xfrm>
          <a:prstGeom prst="rect">
            <a:avLst/>
          </a:prstGeom>
          <a:solidFill>
            <a:srgbClr val="eeece1"/>
          </a:solidFill>
          <a:ln w="25560">
            <a:solidFill>
              <a:srgbClr val="c0504d"/>
            </a:solidFill>
            <a:miter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alibri"/>
              </a:rPr>
              <a:t>European Qualifications Frame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alibri"/>
              </a:rPr>
              <a:t>Basic Princip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Quality Assu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Enabling validity of formal and informal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uidance and Counse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ey compet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redit transfer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Europ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Plote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Calibri"/>
              </a:rPr>
              <a:t>Teaching Programmes</a:t>
            </a:r>
            <a:br>
              <a:rPr sz="3600"/>
            </a:br>
            <a:r>
              <a:rPr b="0" lang="tr-TR" sz="3600" spc="-1" strike="noStrike">
                <a:solidFill>
                  <a:srgbClr val="ffffff"/>
                </a:solidFill>
                <a:latin typeface="Calibri"/>
              </a:rPr>
              <a:t>(Enabling Acquisition of Key Qualifications, ECVE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790280"/>
            <a:ext cx="4040280" cy="639720"/>
          </a:xfrm>
          <a:prstGeom prst="rect">
            <a:avLst/>
          </a:prstGeom>
          <a:solidFill>
            <a:srgbClr val="eeece1"/>
          </a:solidFill>
          <a:ln w="9360">
            <a:solidFill>
              <a:srgbClr val="c0504d"/>
            </a:solidFill>
            <a:miter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Modular Programmes in V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430360"/>
            <a:ext cx="4040280" cy="39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2002- continuing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Labour market need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Vocational analysis (ISCO-8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Vocational standard (ISCO-8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Education standard (ISCED-9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Modular training programme based on qualif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7317 Training materi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60 area 226 Branch program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790280"/>
            <a:ext cx="4041720" cy="639720"/>
          </a:xfrm>
          <a:prstGeom prst="rect">
            <a:avLst/>
          </a:prstGeom>
          <a:solidFill>
            <a:srgbClr val="eeece1"/>
          </a:solidFill>
          <a:ln w="9360">
            <a:solidFill>
              <a:srgbClr val="c0504d"/>
            </a:solidFill>
            <a:miter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Calibri"/>
              </a:rPr>
              <a:t>General Secondary Education Programm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430360"/>
            <a:ext cx="4041720" cy="39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y Board of Educat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105 lesson programmes have been updated since 2005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(Except Health Knowledge, National Security Knowledge, Democracy and Human Rights Training, Traffic and First A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Calibri"/>
              </a:rPr>
              <a:t>Teacher Qualifications-1-                                    2012 first quarter</a:t>
            </a:r>
            <a:br>
              <a:rPr sz="3200"/>
            </a:br>
            <a:r>
              <a:rPr b="0" lang="tr-TR" sz="3200" spc="-1" strike="noStrike">
                <a:solidFill>
                  <a:srgbClr val="ffffff"/>
                </a:solidFill>
                <a:latin typeface="Calibri"/>
              </a:rPr>
              <a:t>(Quality Assur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eeece1"/>
          </a:solidFill>
          <a:ln w="9360">
            <a:solidFill>
              <a:srgbClr val="c0504d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Primary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qualifications 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 basic, 31 sub-qualification and 133 performance indicatiors-November 200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fications for special fields (14 special fields and performance indicatiors-July 2008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management  (SE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-based vocational development (SE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eeece1"/>
          </a:solidFill>
          <a:ln w="9360">
            <a:solidFill>
              <a:srgbClr val="c0504d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General Secondary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urkish Language and Literature, History, Geography, English, Philosophy, Mathematics, Physics, Chemistry, Biology (put into effect in January 20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Physical Training, Art, Music, Religion and Ethics, Psychology, Health Knowledge, Foreign Language, Professional Teaching Knowledge fields (pending for approval of Bo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orporate and individual performance management (pilot is being implement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chool-based vocational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Calibri"/>
              </a:rPr>
              <a:t>Teacher Qualifications- 2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Calibri"/>
              </a:rPr>
              <a:t>(Qaulity Assuranc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420640"/>
            <a:ext cx="8229600" cy="41036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fields within the scope of METEM Project (Computer, Electric-Electronics, Automotive, Clothing / Ready-Made Clothing, Accomodation Management, Construction, Installment / Natural Gas, Child Development and Pedagogy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ddition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eld qualifications related to guidance and special education will be prepar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17 M Euros, teachers and managers have been trained on new teaching metho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tr-TR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ith 24 M Euros, 194 shools have been equipped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84000" y="1557000"/>
            <a:ext cx="4040280" cy="63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VET–Open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Calibri"/>
              </a:rPr>
              <a:t>Validity of Nonformal and Informal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1700280"/>
            <a:ext cx="8229600" cy="37051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LL-1: In 1 occupational branch in each of 8 field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LL-2: In 1 occupational branch in each of 7 fiel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tests in order to provide recognition of validity of prior learning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ment of skill assesment centres in 7 fields in LLL-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Calibri"/>
              </a:rPr>
              <a:t>LLL Portal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Calibri"/>
              </a:rPr>
              <a:t>(Guidance and Counselling [MoNE-İŞKUR]-EUROPASS [VQA]-PLOTEUS Euroguidance [İŞKUR]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nonforma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graduat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-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egitim.gov.t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5 Diyagram" descr=""/>
          <p:cNvPicPr/>
          <p:nvPr/>
        </p:nvPicPr>
        <p:blipFill>
          <a:blip r:embed="rId1"/>
          <a:stretch/>
        </p:blipFill>
        <p:spPr>
          <a:xfrm>
            <a:off x="585720" y="1262160"/>
            <a:ext cx="8277120" cy="5175000"/>
          </a:xfrm>
          <a:prstGeom prst="rect">
            <a:avLst/>
          </a:prstGeom>
          <a:ln w="0">
            <a:noFill/>
          </a:ln>
        </p:spPr>
      </p:pic>
      <p:sp>
        <p:nvSpPr>
          <p:cNvPr id="66" name="6 Dikdörtgen"/>
          <p:cNvSpPr/>
          <p:nvPr/>
        </p:nvSpPr>
        <p:spPr>
          <a:xfrm>
            <a:off x="179280" y="333360"/>
            <a:ext cx="1440000" cy="107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Training Supply – Corporate -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5 Diyagram" descr=""/>
          <p:cNvPicPr/>
          <p:nvPr/>
        </p:nvPicPr>
        <p:blipFill>
          <a:blip r:embed="rId1"/>
          <a:stretch/>
        </p:blipFill>
        <p:spPr>
          <a:xfrm>
            <a:off x="622440" y="1122480"/>
            <a:ext cx="8283600" cy="5229000"/>
          </a:xfrm>
          <a:prstGeom prst="rect">
            <a:avLst/>
          </a:prstGeom>
          <a:ln w="0">
            <a:noFill/>
          </a:ln>
        </p:spPr>
      </p:pic>
      <p:sp>
        <p:nvSpPr>
          <p:cNvPr id="68" name="6 Dikdörtgen"/>
          <p:cNvSpPr/>
          <p:nvPr/>
        </p:nvSpPr>
        <p:spPr>
          <a:xfrm>
            <a:off x="250920" y="260280"/>
            <a:ext cx="142848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Training Demand (Corporate-Individ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7:40:00Z</dcterms:created>
  <dc:creator>MEB-PKM</dc:creator>
  <dc:description/>
  <dc:language>en-US</dc:language>
  <cp:lastModifiedBy>MEB-PKM</cp:lastModifiedBy>
  <dcterms:modified xsi:type="dcterms:W3CDTF">2011-11-18T15:30:02Z</dcterms:modified>
  <cp:revision>49</cp:revision>
  <dc:subject/>
  <dc:title>Slayt 1</dc:title>
</cp:coreProperties>
</file>